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3.jpeg" ContentType="image/jpeg"/>
  <Override PartName="/ppt/media/image13.wmf" ContentType="image/x-wmf"/>
  <Override PartName="/ppt/media/image26.png" ContentType="image/png"/>
  <Override PartName="/ppt/media/image17.jpeg" ContentType="image/jpeg"/>
  <Override PartName="/ppt/media/image31.wmf" ContentType="image/x-wmf"/>
  <Override PartName="/ppt/media/image34.jpeg" ContentType="image/jpeg"/>
  <Override PartName="/ppt/media/image35.png" ContentType="image/png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4.png" ContentType="image/png"/>
  <Override PartName="/ppt/media/image28.wmf" ContentType="image/x-wmf"/>
  <Override PartName="/ppt/media/image3.jpeg" ContentType="image/jpeg"/>
  <Override PartName="/ppt/media/image1.jpeg" ContentType="image/jpeg"/>
  <Override PartName="/ppt/media/image15.wmf" ContentType="image/x-wmf"/>
  <Override PartName="/ppt/media/image16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E7E5-A06A-443B-ADB7-65666A1C00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F8C-F85B-4656-A1A9-275C68E5A8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u as..? (or As-tu...?) = Do you have..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u as un cadea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-tu un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68C1-1B75-4952-A522-BE5C29348D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a = He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a un vé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a des cadea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C9F0-24EF-45F9-9853-4B4ADFD2C7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a = She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a un vé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a un iPod To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8E19-F747-4E2E-B3B1-6BDDA266AE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= I 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anglais (m) Je suis anglaise (f) – I am Engl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grand (m) Je suis grande (f) – I am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content (m) Je suis contente (f) – I am hap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F09E-0B41-4BAC-92C1-D54136085A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= I like (usually followed by le/la/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les sapins de noël (I like christmas t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les cadeaux (I like pres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le dinde (I like tur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chanter (I like sing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D9CE-C5A7-451D-8ADD-FA8ACCDD99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= I don’t like (usually followed by le/la/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les carottes = I don’t like carr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le dinde = I don’t like tur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chanter... = I don’t like sing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DA17-2A00-49BB-BD43-7F4EA8B9DB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est = He is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est grand. (He is t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est féroce (He is ferociou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FE7-3CBE-4B48-8257-FE6B9A2BD0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est = Sh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est gr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She is t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est méchant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She is wick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21B0-82CD-498C-978B-C01A7FDD88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 = I would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 un co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 un ‘Nintendo Wii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3F9-27FC-4D4E-984B-8F8430B2C3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= It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un chape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le Père Noë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une r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70E-CC18-411B-BA69-53757E9890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= It i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un c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Monsieur John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b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5877-EA42-4DBF-BFE0-315E14CE42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= there is / there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un sapin de noë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trois r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beaucoup de cadea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4AFD-859F-4D4A-B271-F84101C7E3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n’y a pas de = Ther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sn’t / There are not 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n’y a pas de sapin de noël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There isn’t a Christmas tre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n’y a pas de cadeau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There aren’t any present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5611-0889-4A42-9BAA-B0F758317E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= I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un cadeau et une car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un o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des chocol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6524-2D9D-44CD-8310-90602D359A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 pas de = I don’t have 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 pas de cadeau. (I don’t have any pres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 pas de iPod Touch. (I don’t have an iPod Tou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48A1-ED1A-4371-8D92-27E416646F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A52-5820-4C2B-8CB9-D9DE54DA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76C-6E35-4DAC-87E6-8A72C0F8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33F-1CC3-43B7-9036-5249CEDB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1A7-D860-447D-BD32-91EDD9C1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0AD-B5E9-441C-8ED6-8D2BF0F0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B09-DED4-4B34-BF1E-A8F631D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1ED-0C54-4CB8-93AE-854D94F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F9A-1EF2-4E14-A8D5-523664F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052-3AB7-42AF-BDDF-E813327D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A6F-9022-47D1-9D5D-50D63FD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891-E44F-4532-857B-ACF2CC46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747-D6CC-45BF-AC15-6F18330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0428-7099-4230-A30E-E7D423E9A4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image" Target="../media/image22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hristmas – themed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re structures for KS2 French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tarter / 5-minute activities</a:t>
            </a:r>
            <a:br>
              <a:rPr sz="4900"/>
            </a:br>
            <a:br>
              <a:rPr sz="49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based on the Hampshire End-of-Year 6 Transfer Agreement for Langua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98989"/>
                </a:solidFill>
                <a:latin typeface="Calibri"/>
              </a:rPr>
              <a:t>Jo Rhys-Jones Dec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6560" y="2707920"/>
            <a:ext cx="4321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Tu as....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orded Sound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6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Il a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orded Sound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22000" cy="52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6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39640" y="2060640"/>
            <a:ext cx="460836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lle 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ecorded Sound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665280" cy="66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7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000" y="2707920"/>
            <a:ext cx="4248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sui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Recorded Sound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738360" cy="73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Jo\AppData\Local\Microsoft\Windows\Temporary Internet Files\Content.IE5\LVZF7U2C\MC900098133[1].wmf"/>
          <p:cNvPicPr/>
          <p:nvPr/>
        </p:nvPicPr>
        <p:blipFill>
          <a:blip r:embed="rId2"/>
          <a:stretch/>
        </p:blipFill>
        <p:spPr>
          <a:xfrm>
            <a:off x="250920" y="4014720"/>
            <a:ext cx="2808360" cy="265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Jo\AppData\Local\Microsoft\Windows\Temporary Internet Files\Content.IE5\OALYRI11\MC900190861[1].wmf"/>
          <p:cNvPicPr/>
          <p:nvPr/>
        </p:nvPicPr>
        <p:blipFill>
          <a:blip r:embed="rId3"/>
          <a:stretch/>
        </p:blipFill>
        <p:spPr>
          <a:xfrm>
            <a:off x="6012000" y="4000680"/>
            <a:ext cx="2340000" cy="2668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Jo\AppData\Local\Microsoft\Windows\Temporary Internet Files\Content.IE5\ZZP0HXAT\MC900140941[1].wmf"/>
          <p:cNvPicPr/>
          <p:nvPr/>
        </p:nvPicPr>
        <p:blipFill>
          <a:blip r:embed="rId4"/>
          <a:stretch/>
        </p:blipFill>
        <p:spPr>
          <a:xfrm>
            <a:off x="147600" y="104760"/>
            <a:ext cx="1616040" cy="175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C:\Users\Jo\AppData\Local\Microsoft\Windows\Temporary Internet Files\Content.IE5\ZZP0HXAT\MC900432425[1].wmf"/>
          <p:cNvPicPr/>
          <p:nvPr/>
        </p:nvPicPr>
        <p:blipFill>
          <a:blip r:embed="rId5"/>
          <a:stretch/>
        </p:blipFill>
        <p:spPr>
          <a:xfrm>
            <a:off x="3492360" y="4869000"/>
            <a:ext cx="2025720" cy="157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Jo\AppData\Local\Microsoft\Windows\Temporary Internet Files\Content.IE5\OJKJMONN\MC900432403[1].wmf"/>
          <p:cNvPicPr/>
          <p:nvPr/>
        </p:nvPicPr>
        <p:blipFill>
          <a:blip r:embed="rId6"/>
          <a:stretch/>
        </p:blipFill>
        <p:spPr>
          <a:xfrm>
            <a:off x="6948360" y="1484280"/>
            <a:ext cx="18352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1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’a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orded Sound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592200" cy="59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Jo\AppData\Local\Microsoft\Windows\Temporary Internet Files\Content.IE5\LVZF7U2C\MC900439967[1].wmf"/>
          <p:cNvPicPr/>
          <p:nvPr/>
        </p:nvPicPr>
        <p:blipFill>
          <a:blip r:embed="rId2"/>
          <a:stretch/>
        </p:blipFill>
        <p:spPr>
          <a:xfrm>
            <a:off x="250920" y="2550960"/>
            <a:ext cx="2089080" cy="408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Jo\AppData\Local\Microsoft\Windows\Temporary Internet Files\Content.IE5\OJKJMONN\MC900140953[1].wmf"/>
          <p:cNvPicPr/>
          <p:nvPr/>
        </p:nvPicPr>
        <p:blipFill>
          <a:blip r:embed="rId3"/>
          <a:stretch/>
        </p:blipFill>
        <p:spPr>
          <a:xfrm>
            <a:off x="5292720" y="443700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Jo\AppData\Local\Microsoft\Windows\Temporary Internet Files\Content.IE5\ZZP0HXAT\MC900021592[1].wmf"/>
          <p:cNvPicPr/>
          <p:nvPr/>
        </p:nvPicPr>
        <p:blipFill>
          <a:blip r:embed="rId4"/>
          <a:stretch/>
        </p:blipFill>
        <p:spPr>
          <a:xfrm>
            <a:off x="2706840" y="4287960"/>
            <a:ext cx="2152440" cy="2236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Jo\AppData\Local\Microsoft\Windows\Temporary Internet Files\Content.IE5\LVZF7U2C\MC900436336[1].png"/>
          <p:cNvPicPr/>
          <p:nvPr/>
        </p:nvPicPr>
        <p:blipFill>
          <a:blip r:embed="rId5"/>
          <a:stretch/>
        </p:blipFill>
        <p:spPr>
          <a:xfrm>
            <a:off x="6875640" y="2349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C:\Users\Jo\AppData\Local\Microsoft\Windows\Temporary Internet Files\Content.IE5\OALYRI11\MC900133445[1].wmf"/>
          <p:cNvPicPr/>
          <p:nvPr/>
        </p:nvPicPr>
        <p:blipFill>
          <a:blip r:embed="rId1"/>
          <a:stretch/>
        </p:blipFill>
        <p:spPr>
          <a:xfrm>
            <a:off x="34920" y="352440"/>
            <a:ext cx="2594160" cy="2139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1640" y="2707920"/>
            <a:ext cx="6553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n’aime p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orded Sound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Users\Jo\AppData\Local\Microsoft\Windows\Temporary Internet Files\Content.IE5\LVZF7U2C\MC900436336[1].png"/>
          <p:cNvPicPr/>
          <p:nvPr/>
        </p:nvPicPr>
        <p:blipFill>
          <a:blip r:embed="rId3"/>
          <a:stretch/>
        </p:blipFill>
        <p:spPr>
          <a:xfrm>
            <a:off x="46836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C:\Users\Jo\AppData\Local\Microsoft\Windows\Temporary Internet Files\Content.IE5\ZZP0HXAT\MC900191577[1].wmf"/>
          <p:cNvPicPr/>
          <p:nvPr/>
        </p:nvPicPr>
        <p:blipFill>
          <a:blip r:embed="rId4"/>
          <a:stretch/>
        </p:blipFill>
        <p:spPr>
          <a:xfrm>
            <a:off x="2627280" y="5002200"/>
            <a:ext cx="1889280" cy="152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Jo\AppData\Local\Microsoft\Windows\Temporary Internet Files\Content.IE5\LVZF7U2C\MC900199137[1].wmf"/>
          <p:cNvPicPr/>
          <p:nvPr/>
        </p:nvPicPr>
        <p:blipFill>
          <a:blip r:embed="rId5"/>
          <a:stretch/>
        </p:blipFill>
        <p:spPr>
          <a:xfrm>
            <a:off x="4788000" y="5013360"/>
            <a:ext cx="1693800" cy="158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Jo\AppData\Local\Microsoft\Windows\Temporary Internet Files\Content.IE5\OALYRI11\MC900155070[1].wmf"/>
          <p:cNvPicPr/>
          <p:nvPr/>
        </p:nvPicPr>
        <p:blipFill>
          <a:blip r:embed="rId6"/>
          <a:stretch/>
        </p:blipFill>
        <p:spPr>
          <a:xfrm>
            <a:off x="6804000" y="4835520"/>
            <a:ext cx="1509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7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3528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Il e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ecorded Sound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Users\Jo\AppData\Local\Microsoft\Windows\Temporary Internet Files\Content.IE5\LVZF7U2C\MC900098133[1].wmf"/>
          <p:cNvPicPr/>
          <p:nvPr/>
        </p:nvPicPr>
        <p:blipFill>
          <a:blip r:embed="rId2"/>
          <a:stretch/>
        </p:blipFill>
        <p:spPr>
          <a:xfrm>
            <a:off x="250920" y="4014720"/>
            <a:ext cx="2808360" cy="265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Users\Jo\AppData\Local\Microsoft\Windows\Temporary Internet Files\Content.IE5\OALYRI11\MC900190861[1].wmf"/>
          <p:cNvPicPr/>
          <p:nvPr/>
        </p:nvPicPr>
        <p:blipFill>
          <a:blip r:embed="rId3"/>
          <a:stretch/>
        </p:blipFill>
        <p:spPr>
          <a:xfrm>
            <a:off x="6012000" y="4000680"/>
            <a:ext cx="2340000" cy="2668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Users\Jo\AppData\Local\Microsoft\Windows\Temporary Internet Files\Content.IE5\ZZP0HXAT\MC900140941[1].wmf"/>
          <p:cNvPicPr/>
          <p:nvPr/>
        </p:nvPicPr>
        <p:blipFill>
          <a:blip r:embed="rId4"/>
          <a:stretch/>
        </p:blipFill>
        <p:spPr>
          <a:xfrm>
            <a:off x="147600" y="104760"/>
            <a:ext cx="1616040" cy="175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C:\Users\Jo\AppData\Local\Microsoft\Windows\Temporary Internet Files\Content.IE5\ZZP0HXAT\MC900432425[1].wmf"/>
          <p:cNvPicPr/>
          <p:nvPr/>
        </p:nvPicPr>
        <p:blipFill>
          <a:blip r:embed="rId5"/>
          <a:stretch/>
        </p:blipFill>
        <p:spPr>
          <a:xfrm>
            <a:off x="3492360" y="4869000"/>
            <a:ext cx="2025720" cy="157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C:\Users\Jo\AppData\Local\Microsoft\Windows\Temporary Internet Files\Content.IE5\OJKJMONN\MC900432403[1].wmf"/>
          <p:cNvPicPr/>
          <p:nvPr/>
        </p:nvPicPr>
        <p:blipFill>
          <a:blip r:embed="rId6"/>
          <a:stretch/>
        </p:blipFill>
        <p:spPr>
          <a:xfrm>
            <a:off x="6948360" y="1484280"/>
            <a:ext cx="18352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6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Elle e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ecorded Sound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922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Users\Jo\AppData\Local\Microsoft\Windows\Temporary Internet Files\Content.IE5\OALYRI11\MC900190861[1].wmf"/>
          <p:cNvPicPr/>
          <p:nvPr/>
        </p:nvPicPr>
        <p:blipFill>
          <a:blip r:embed="rId2"/>
          <a:stretch/>
        </p:blipFill>
        <p:spPr>
          <a:xfrm>
            <a:off x="324000" y="3789360"/>
            <a:ext cx="2340000" cy="266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C:\Users\Jo\AppData\Local\Microsoft\Windows\Temporary Internet Files\Content.IE5\OJKJMONN\MC900432403[1].wmf"/>
          <p:cNvPicPr/>
          <p:nvPr/>
        </p:nvPicPr>
        <p:blipFill>
          <a:blip r:embed="rId3"/>
          <a:stretch/>
        </p:blipFill>
        <p:spPr>
          <a:xfrm>
            <a:off x="6948360" y="1484280"/>
            <a:ext cx="1835280" cy="195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Users\Jo\AppData\Local\Microsoft\Windows\Temporary Internet Files\Content.IE5\ZZP0HXAT\MC900116122[1].wmf"/>
          <p:cNvPicPr/>
          <p:nvPr/>
        </p:nvPicPr>
        <p:blipFill>
          <a:blip r:embed="rId4"/>
          <a:stretch/>
        </p:blipFill>
        <p:spPr>
          <a:xfrm>
            <a:off x="6300720" y="4365720"/>
            <a:ext cx="1513080" cy="1841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Users\Jo\AppData\Local\Microsoft\Windows\Temporary Internet Files\Content.IE5\OJKJMONN\MC900349119[1].wmf"/>
          <p:cNvPicPr/>
          <p:nvPr/>
        </p:nvPicPr>
        <p:blipFill>
          <a:blip r:embed="rId5"/>
          <a:stretch/>
        </p:blipFill>
        <p:spPr>
          <a:xfrm>
            <a:off x="3708360" y="4437000"/>
            <a:ext cx="19512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61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2707920"/>
            <a:ext cx="6192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voudrai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Recorded Sound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pod-touch-4th-generation-media-player.jpg"/>
          <p:cNvPicPr/>
          <p:nvPr/>
        </p:nvPicPr>
        <p:blipFill>
          <a:blip r:embed="rId2"/>
          <a:stretch/>
        </p:blipFill>
        <p:spPr>
          <a:xfrm>
            <a:off x="395280" y="4797360"/>
            <a:ext cx="1765440" cy="1727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3800158_4.jpg"/>
          <p:cNvPicPr/>
          <p:nvPr/>
        </p:nvPicPr>
        <p:blipFill>
          <a:blip r:embed="rId3"/>
          <a:stretch/>
        </p:blipFill>
        <p:spPr>
          <a:xfrm>
            <a:off x="4572000" y="4863960"/>
            <a:ext cx="1660680" cy="166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one-boys-katy-perry-cd-cover-art.jpg"/>
          <p:cNvPicPr/>
          <p:nvPr/>
        </p:nvPicPr>
        <p:blipFill>
          <a:blip r:embed="rId4"/>
          <a:stretch/>
        </p:blipFill>
        <p:spPr>
          <a:xfrm>
            <a:off x="2365200" y="4606920"/>
            <a:ext cx="1919520" cy="19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260px-Nintendo-3DS-AquaOpen.png"/>
          <p:cNvPicPr/>
          <p:nvPr/>
        </p:nvPicPr>
        <p:blipFill>
          <a:blip r:embed="rId5"/>
          <a:stretch/>
        </p:blipFill>
        <p:spPr>
          <a:xfrm>
            <a:off x="6300720" y="4365720"/>
            <a:ext cx="2476440" cy="2238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Users\Jo\AppData\Local\Microsoft\Windows\Temporary Internet Files\Content.IE5\OALYRI11\MC900157411[1].wmf"/>
          <p:cNvPicPr/>
          <p:nvPr/>
        </p:nvPicPr>
        <p:blipFill>
          <a:blip r:embed="rId6"/>
          <a:stretch/>
        </p:blipFill>
        <p:spPr>
          <a:xfrm>
            <a:off x="324000" y="333360"/>
            <a:ext cx="1555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33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0920" y="189000"/>
          <a:ext cx="8748720" cy="6527880"/>
        </p:xfrm>
        <a:graphic>
          <a:graphicData uri="http://schemas.openxmlformats.org/drawingml/2006/table">
            <a:tbl>
              <a:tblPr/>
              <a:tblGrid>
                <a:gridCol w="1793880"/>
                <a:gridCol w="6954840"/>
              </a:tblGrid>
              <a:tr h="426960"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.6 shoul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know these core elements well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fter 4 yrs of entitlement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ional language to be considered a bonus and non-essential. Topic areas are not to be specifi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u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wareness that nouns can be m or f; how to recognise s. or pl; Dictionary skil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b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y phoneme/graphemes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, ou, é/er/et/ez, gn, on/an, in/ain, o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simple awareness of silent lett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size and some simple adjectives. Basic awareness of position / agre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65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e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’e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t 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 n’est pas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It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n’t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 y a….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e is / there ar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 n’y a pas de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e isn’t / aren’t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’a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I hav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s…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You hav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/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…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He/she has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n’ai pas de..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I haven’t got / don’t have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suis...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I am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 es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You ar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/elle est...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/she 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’ai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I lik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n’aime pas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I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 like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voudrais...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I would lik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to 31. Ideally up to 69.  Up to 100 is a bonu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s/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lle est la date aujourd’hui? Quelle est la date de ton anniversai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ling th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n the hour) Il est une heure. -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1 o’clock.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l est deux heures. –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2 o’clo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gnise &amp; a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swer basic ques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’est-ce que c’est?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it?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ù est..?                 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re is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l âge as-tu?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old are you?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s-tu?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have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mes-tu?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like …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 tu t’appelles?    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your name?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comment t’appelles-tu?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Action Button: Home 4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to use these slid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a starter or 5-minute filler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play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ne slid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 bo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k children to use mini-whiteboards to write down as many sentences as they can using the struc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t a time limit of 2 minutes and ask groups to read back their best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tuck there are reminders and suggestions underneath each slide in th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ction Button: Home 4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1640" y="2707920"/>
            <a:ext cx="352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C’e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xmas hat.jpg"/>
          <p:cNvPicPr/>
          <p:nvPr/>
        </p:nvPicPr>
        <p:blipFill>
          <a:blip r:embed="rId2"/>
          <a:stretch/>
        </p:blipFill>
        <p:spPr>
          <a:xfrm>
            <a:off x="324000" y="333360"/>
            <a:ext cx="904680" cy="98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xmas scarf.jpg"/>
          <p:cNvPicPr/>
          <p:nvPr/>
        </p:nvPicPr>
        <p:blipFill>
          <a:blip r:embed="rId3"/>
          <a:stretch/>
        </p:blipFill>
        <p:spPr>
          <a:xfrm>
            <a:off x="324000" y="1700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xmas socks.jpg"/>
          <p:cNvPicPr/>
          <p:nvPr/>
        </p:nvPicPr>
        <p:blipFill>
          <a:blip r:embed="rId4"/>
          <a:stretch/>
        </p:blipFill>
        <p:spPr>
          <a:xfrm>
            <a:off x="324000" y="2924280"/>
            <a:ext cx="9554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ather xmas face.jpg"/>
          <p:cNvPicPr/>
          <p:nvPr/>
        </p:nvPicPr>
        <p:blipFill>
          <a:blip r:embed="rId5"/>
          <a:stretch/>
        </p:blipFill>
        <p:spPr>
          <a:xfrm>
            <a:off x="324000" y="4292640"/>
            <a:ext cx="952200" cy="105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Jo\AppData\Local\Microsoft\Windows\Temporary Internet Files\Content.IE5\ZZP0HXAT\MC900133275[2].wmf"/>
          <p:cNvPicPr/>
          <p:nvPr/>
        </p:nvPicPr>
        <p:blipFill>
          <a:blip r:embed="rId6"/>
          <a:stretch/>
        </p:blipFill>
        <p:spPr>
          <a:xfrm>
            <a:off x="250920" y="5589720"/>
            <a:ext cx="1008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Ce n’est p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orded Sound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9220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xmas hat.jpg"/>
          <p:cNvPicPr/>
          <p:nvPr/>
        </p:nvPicPr>
        <p:blipFill>
          <a:blip r:embed="rId2"/>
          <a:stretch/>
        </p:blipFill>
        <p:spPr>
          <a:xfrm>
            <a:off x="324000" y="333360"/>
            <a:ext cx="90468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xmas scarf.jpg"/>
          <p:cNvPicPr/>
          <p:nvPr/>
        </p:nvPicPr>
        <p:blipFill>
          <a:blip r:embed="rId3"/>
          <a:stretch/>
        </p:blipFill>
        <p:spPr>
          <a:xfrm>
            <a:off x="324000" y="1700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xmas socks.jpg"/>
          <p:cNvPicPr/>
          <p:nvPr/>
        </p:nvPicPr>
        <p:blipFill>
          <a:blip r:embed="rId4"/>
          <a:stretch/>
        </p:blipFill>
        <p:spPr>
          <a:xfrm>
            <a:off x="324000" y="2924280"/>
            <a:ext cx="955440" cy="100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father xmas face.jpg"/>
          <p:cNvPicPr/>
          <p:nvPr/>
        </p:nvPicPr>
        <p:blipFill>
          <a:blip r:embed="rId5"/>
          <a:stretch/>
        </p:blipFill>
        <p:spPr>
          <a:xfrm>
            <a:off x="324000" y="4292640"/>
            <a:ext cx="95220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Jo\AppData\Local\Microsoft\Windows\Temporary Internet Files\Content.IE5\ZZP0HXAT\MC900133275[2].wmf"/>
          <p:cNvPicPr/>
          <p:nvPr/>
        </p:nvPicPr>
        <p:blipFill>
          <a:blip r:embed="rId6"/>
          <a:stretch/>
        </p:blipFill>
        <p:spPr>
          <a:xfrm>
            <a:off x="250920" y="5589720"/>
            <a:ext cx="1008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8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55640" y="2708280"/>
            <a:ext cx="4103640" cy="216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Il y 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Jo\AppData\Local\Microsoft\Windows\Temporary Internet Files\Content.IE5\OJKJMONN\MC900140935[1].wmf"/>
          <p:cNvPicPr/>
          <p:nvPr/>
        </p:nvPicPr>
        <p:blipFill>
          <a:blip r:embed="rId2"/>
          <a:stretch/>
        </p:blipFill>
        <p:spPr>
          <a:xfrm>
            <a:off x="108000" y="5013360"/>
            <a:ext cx="114948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Jo\AppData\Local\Microsoft\Windows\Temporary Internet Files\Content.IE5\LVZF7U2C\MC900140937[1].wmf"/>
          <p:cNvPicPr/>
          <p:nvPr/>
        </p:nvPicPr>
        <p:blipFill>
          <a:blip r:embed="rId3"/>
          <a:stretch/>
        </p:blipFill>
        <p:spPr>
          <a:xfrm>
            <a:off x="1187280" y="5229360"/>
            <a:ext cx="82728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Jo\AppData\Local\Microsoft\Windows\Temporary Internet Files\Content.IE5\OALYRI11\MC900140941[1].wmf"/>
          <p:cNvPicPr/>
          <p:nvPr/>
        </p:nvPicPr>
        <p:blipFill>
          <a:blip r:embed="rId4"/>
          <a:stretch/>
        </p:blipFill>
        <p:spPr>
          <a:xfrm>
            <a:off x="1908000" y="5373720"/>
            <a:ext cx="1073160" cy="1163520"/>
          </a:xfrm>
          <a:prstGeom prst="rect">
            <a:avLst/>
          </a:prstGeom>
          <a:ln w="0">
            <a:noFill/>
          </a:ln>
        </p:spPr>
      </p:pic>
      <p:sp>
        <p:nvSpPr>
          <p:cNvPr id="80" name="Tree"/>
          <p:cNvSpPr/>
          <p:nvPr/>
        </p:nvSpPr>
        <p:spPr>
          <a:xfrm>
            <a:off x="3780000" y="4724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C:\Users\Jo\AppData\Local\Microsoft\Windows\Temporary Internet Files\Content.IE5\OALYRI11\MC900140891[1].wmf"/>
          <p:cNvPicPr/>
          <p:nvPr/>
        </p:nvPicPr>
        <p:blipFill>
          <a:blip r:embed="rId5"/>
          <a:stretch/>
        </p:blipFill>
        <p:spPr>
          <a:xfrm>
            <a:off x="6372360" y="4724280"/>
            <a:ext cx="1414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6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2707920"/>
            <a:ext cx="7056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Il n’y a pas d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447840" cy="4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Jo\AppData\Local\Microsoft\Windows\Temporary Internet Files\Content.IE5\OJKJMONN\MC900140935[1].wmf"/>
          <p:cNvPicPr/>
          <p:nvPr/>
        </p:nvPicPr>
        <p:blipFill>
          <a:blip r:embed="rId2"/>
          <a:stretch/>
        </p:blipFill>
        <p:spPr>
          <a:xfrm>
            <a:off x="108000" y="5013360"/>
            <a:ext cx="114948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Jo\AppData\Local\Microsoft\Windows\Temporary Internet Files\Content.IE5\LVZF7U2C\MC900140937[1].wmf"/>
          <p:cNvPicPr/>
          <p:nvPr/>
        </p:nvPicPr>
        <p:blipFill>
          <a:blip r:embed="rId3"/>
          <a:stretch/>
        </p:blipFill>
        <p:spPr>
          <a:xfrm>
            <a:off x="1187280" y="5229360"/>
            <a:ext cx="82728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Users\Jo\AppData\Local\Microsoft\Windows\Temporary Internet Files\Content.IE5\OALYRI11\MC900140941[1].wmf"/>
          <p:cNvPicPr/>
          <p:nvPr/>
        </p:nvPicPr>
        <p:blipFill>
          <a:blip r:embed="rId4"/>
          <a:stretch/>
        </p:blipFill>
        <p:spPr>
          <a:xfrm>
            <a:off x="1908000" y="5373720"/>
            <a:ext cx="1073160" cy="1163520"/>
          </a:xfrm>
          <a:prstGeom prst="rect">
            <a:avLst/>
          </a:prstGeom>
          <a:ln w="0">
            <a:noFill/>
          </a:ln>
        </p:spPr>
      </p:pic>
      <p:sp>
        <p:nvSpPr>
          <p:cNvPr id="89" name="Tree"/>
          <p:cNvSpPr/>
          <p:nvPr/>
        </p:nvSpPr>
        <p:spPr>
          <a:xfrm>
            <a:off x="3780000" y="4724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:\Users\Jo\AppData\Local\Microsoft\Windows\Temporary Internet Files\Content.IE5\OALYRI11\MC900140891[1].wmf"/>
          <p:cNvPicPr/>
          <p:nvPr/>
        </p:nvPicPr>
        <p:blipFill>
          <a:blip r:embed="rId5"/>
          <a:stretch/>
        </p:blipFill>
        <p:spPr>
          <a:xfrm>
            <a:off x="6372360" y="4724280"/>
            <a:ext cx="1414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8920" y="2707920"/>
            <a:ext cx="3313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’a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orded Sound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Jo\AppData\Local\Microsoft\Windows\Temporary Internet Files\Content.IE5\ZZP0HXAT\MC900436403[1].png"/>
          <p:cNvPicPr/>
          <p:nvPr/>
        </p:nvPicPr>
        <p:blipFill>
          <a:blip r:embed="rId2"/>
          <a:stretch/>
        </p:blipFill>
        <p:spPr>
          <a:xfrm>
            <a:off x="468360" y="5157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Jo\AppData\Local\Microsoft\Windows\Temporary Internet Files\Content.IE5\ZZP0HXAT\MC900361924[1].wmf"/>
          <p:cNvPicPr/>
          <p:nvPr/>
        </p:nvPicPr>
        <p:blipFill>
          <a:blip r:embed="rId3"/>
          <a:stretch/>
        </p:blipFill>
        <p:spPr>
          <a:xfrm>
            <a:off x="2340000" y="4581360"/>
            <a:ext cx="1415880" cy="181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Jo\AppData\Local\Microsoft\Windows\Temporary Internet Files\Content.IE5\OJKJMONN\MC910217010[1].png"/>
          <p:cNvPicPr/>
          <p:nvPr/>
        </p:nvPicPr>
        <p:blipFill>
          <a:blip r:embed="rId4"/>
          <a:stretch/>
        </p:blipFill>
        <p:spPr>
          <a:xfrm>
            <a:off x="4284720" y="5157720"/>
            <a:ext cx="1339920" cy="1339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Jo\AppData\Local\Microsoft\Windows\Temporary Internet Files\Content.IE5\LVZF7U2C\MC900112430[1].wmf"/>
          <p:cNvPicPr/>
          <p:nvPr/>
        </p:nvPicPr>
        <p:blipFill>
          <a:blip r:embed="rId5"/>
          <a:stretch/>
        </p:blipFill>
        <p:spPr>
          <a:xfrm>
            <a:off x="6156360" y="5157720"/>
            <a:ext cx="25606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49016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n’ai pas d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8"/>
          <p:cNvSpPr/>
          <p:nvPr/>
        </p:nvSpPr>
        <p:spPr>
          <a:xfrm>
            <a:off x="4140360" y="5516640"/>
            <a:ext cx="1368360" cy="1341360"/>
          </a:xfrm>
          <a:custGeom>
            <a:avLst/>
            <a:gdLst>
              <a:gd name="textAreaLeft" fmla="*/ 218160 w 1368360"/>
              <a:gd name="textAreaRight" fmla="*/ 1150200 w 1368360"/>
              <a:gd name="textAreaTop" fmla="*/ 209520 h 1341360"/>
              <a:gd name="textAreaBottom" fmla="*/ 1131840 h 1341360"/>
            </a:gdLst>
            <a:ahLst/>
            <a:rect l="textAreaLeft" t="textAreaTop" r="textAreaRight" b="textAreaBottom"/>
            <a:pathLst>
              <a:path w="1368152" h="1340768">
                <a:moveTo>
                  <a:pt x="218236" y="434633"/>
                </a:moveTo>
                <a:lnTo>
                  <a:pt x="438956" y="209405"/>
                </a:lnTo>
                <a:lnTo>
                  <a:pt x="684076" y="449619"/>
                </a:lnTo>
                <a:lnTo>
                  <a:pt x="929196" y="209405"/>
                </a:lnTo>
                <a:lnTo>
                  <a:pt x="1149916" y="434633"/>
                </a:lnTo>
                <a:lnTo>
                  <a:pt x="909350" y="670384"/>
                </a:lnTo>
                <a:lnTo>
                  <a:pt x="1149916" y="906135"/>
                </a:lnTo>
                <a:lnTo>
                  <a:pt x="929196" y="1131363"/>
                </a:lnTo>
                <a:lnTo>
                  <a:pt x="684076" y="891149"/>
                </a:lnTo>
                <a:lnTo>
                  <a:pt x="438956" y="1131363"/>
                </a:lnTo>
                <a:lnTo>
                  <a:pt x="218236" y="906135"/>
                </a:lnTo>
                <a:lnTo>
                  <a:pt x="458802" y="67038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Multiply 9"/>
          <p:cNvSpPr/>
          <p:nvPr/>
        </p:nvSpPr>
        <p:spPr>
          <a:xfrm>
            <a:off x="6842160" y="4479840"/>
            <a:ext cx="1368360" cy="1339920"/>
          </a:xfrm>
          <a:custGeom>
            <a:avLst/>
            <a:gdLst>
              <a:gd name="textAreaLeft" fmla="*/ 218160 w 1368360"/>
              <a:gd name="textAreaRight" fmla="*/ 1150200 w 1368360"/>
              <a:gd name="textAreaTop" fmla="*/ 209160 h 1339920"/>
              <a:gd name="textAreaBottom" fmla="*/ 1130760 h 1339920"/>
            </a:gdLst>
            <a:ahLst/>
            <a:rect l="textAreaLeft" t="textAreaTop" r="textAreaRight" b="textAreaBottom"/>
            <a:pathLst>
              <a:path w="1368152" h="1340768">
                <a:moveTo>
                  <a:pt x="218236" y="434633"/>
                </a:moveTo>
                <a:lnTo>
                  <a:pt x="438956" y="209405"/>
                </a:lnTo>
                <a:lnTo>
                  <a:pt x="684076" y="449619"/>
                </a:lnTo>
                <a:lnTo>
                  <a:pt x="929196" y="209405"/>
                </a:lnTo>
                <a:lnTo>
                  <a:pt x="1149916" y="434633"/>
                </a:lnTo>
                <a:lnTo>
                  <a:pt x="909350" y="670384"/>
                </a:lnTo>
                <a:lnTo>
                  <a:pt x="1149916" y="906135"/>
                </a:lnTo>
                <a:lnTo>
                  <a:pt x="929196" y="1131363"/>
                </a:lnTo>
                <a:lnTo>
                  <a:pt x="684076" y="891149"/>
                </a:lnTo>
                <a:lnTo>
                  <a:pt x="438956" y="1131363"/>
                </a:lnTo>
                <a:lnTo>
                  <a:pt x="218236" y="906135"/>
                </a:lnTo>
                <a:lnTo>
                  <a:pt x="458802" y="67038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4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3:51Z</dcterms:created>
  <dc:creator>Jo Rhys-Jones</dc:creator>
  <dc:description/>
  <dc:language>en-US</dc:language>
  <cp:lastModifiedBy>Jo Rhys-Jones</cp:lastModifiedBy>
  <dcterms:modified xsi:type="dcterms:W3CDTF">2011-11-29T17:24:14Z</dcterms:modified>
  <cp:revision>26</cp:revision>
  <dc:subject/>
  <dc:title>Core structures for KS2 French  (based on the Hampshire End-of-Year 6 Transfer Agreement for Languages)</dc:title>
</cp:coreProperties>
</file>